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2.jpeg" ContentType="image/jpeg"/>
  <Override PartName="/ppt/media/image15.wmf" ContentType="image/x-wmf"/>
  <Override PartName="/ppt/media/image14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F0E-1616-4883-AD97-534A34DC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CE85-A325-475E-9176-CD2C4406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596-1EE0-4CC8-85BE-EF74F16F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4DA-72B2-48A7-B50A-DBB85801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FE4C-6F6F-4C55-BF75-33AEC2CF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336F-68FC-4B67-B8F5-9E21742A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CA0E-8EE3-41A7-8A67-CDA98A8A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2727-6B8D-4B7E-A73B-784EF016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F8FD-931C-4703-8555-173103F2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8D00-5A52-4CD2-AB51-EEC9C447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F807-E014-40A8-9CB3-53FB1637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C9B-2D3D-410C-A80C-A5C97ADF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AEEC-72F9-4E5C-9DB5-3A708FA5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DC00-3BF9-4E54-B765-6198AB5C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4C9B-52BB-4039-B4EE-C2E688BE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6D2E-89EC-4D51-857B-D6931863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F4E7-CFD0-4714-97F1-0EAFA2F1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CC2-C006-4E39-975F-DDEB6290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F4D3-41B4-4FF9-BE68-0EE5CC3D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4BD5-B445-4A81-9D8E-5E602733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0BD9-F563-4C10-8257-26D03F95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C110-79FB-4EEF-B91B-A364EDA5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9EA-08CB-4135-B904-597BB770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316E-E5F2-43E0-AF9D-ABF75D5C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48EF-40F2-4D82-A008-3A696533EE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A1ED-2449-4821-A7CC-4038ABDF8B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ose" TargetMode="External"/><Relationship Id="rId2" Type="http://schemas.openxmlformats.org/officeDocument/2006/relationships/hyperlink" Target="http://en.wikipedia.org/wiki/Nose" TargetMode="External"/><Relationship Id="rId3" Type="http://schemas.openxmlformats.org/officeDocument/2006/relationships/hyperlink" Target="http://en.wikipedia.org/wiki/Nose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Fire Up the Old Honker!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Cole Slups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4648320"/>
            <a:ext cx="1620720" cy="2073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629400" y="4495680"/>
            <a:ext cx="184788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ssible Causes of Error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one could have stated one of the products. Someone could have peeked. People could have been sick and their nose could have been plugg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5035680"/>
            <a:ext cx="1736640" cy="1822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19720" y="4114800"/>
            <a:ext cx="20620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knowledgement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tt Delli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an Wal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rdan Prof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in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eron F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chel Vess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lsey Riff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i Do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rah Whee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ia Fergu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llon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1820880" cy="1139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934320" y="5638680"/>
            <a:ext cx="1838160" cy="989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477120" y="1752480"/>
            <a:ext cx="1819080" cy="513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733920" y="5715000"/>
            <a:ext cx="1828800" cy="790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733920" y="3352680"/>
            <a:ext cx="1811160" cy="57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6705720" y="2819520"/>
            <a:ext cx="1771560" cy="1800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3733920" y="4343400"/>
            <a:ext cx="1814400" cy="1096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457200" y="1066680"/>
            <a:ext cx="181296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itation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en.wikipedia.org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/wiki/N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faculty.washington.edu/chudler/nosek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kidshealth.org/kid/htbw/nose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ime spent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/10/10 1 h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/15/10 30 m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/16/10 45 m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: 2 ½ h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8526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gender affect the sense to smell common household item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91120" y="3657600"/>
            <a:ext cx="181584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you ever smelled something that you know what it is but you can’t name it? I have too, everyone has. I want to find out if girls can tell the smell better than boy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19920" y="4267080"/>
            <a:ext cx="16333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ypothesi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redict that girls will smell the products bet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5060880"/>
            <a:ext cx="1521000" cy="1797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34120" y="3276720"/>
            <a:ext cx="18730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bbing Alcoh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ne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k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basco Sa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BQ Sa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tton B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903240" cy="1849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368960" y="2968560"/>
            <a:ext cx="404640" cy="919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943600" y="3505320"/>
            <a:ext cx="60012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all materi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common household items such as cleaners, foods, or fresheners, and put them on a cotton b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subjects blindfol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all resul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5880" y="4419720"/>
            <a:ext cx="214632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riable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pendent: Subject’s g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ent: Results of identifying the sm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led: The subject can smell as much as they need to.  All of the same smells will be used as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rls 4.4:8   or    5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ys 3.8: 8  or    47.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ypothesis was correct according to the resul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343400" y="4267080"/>
            <a:ext cx="36813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jor observation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stances changed smell after sitting for a few days. A lot of people knew the smells but couldn’t name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4:37:14Z</dcterms:created>
  <dc:creator>USD376</dc:creator>
  <dc:description/>
  <dc:language>en-US</dc:language>
  <cp:lastModifiedBy>USD376</cp:lastModifiedBy>
  <dcterms:modified xsi:type="dcterms:W3CDTF">2011-01-19T15:22:18Z</dcterms:modified>
  <cp:revision>4</cp:revision>
  <dc:subject/>
  <dc:title>Fire Up the Old Honker!</dc:title>
</cp:coreProperties>
</file>